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AF7-F7E6-490F-ADAC-E3234117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84D-090D-4290-862D-5771FF1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124-AF51-45AB-8F30-2C248770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538-8DB9-4425-92A4-DF8346F3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CB3-3711-4DB6-B912-DFF82C66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FD4-1887-4807-A274-D9AF7055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7BEB-E880-4480-AC0E-0D977C08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EE54-C5C7-42BB-BDA4-53A95CC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5122-F6C1-4229-95D2-C6CE8B99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32D9-DD55-43C4-834A-E1E87F81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C0E-0E77-4327-A08F-E8B3DEB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AEC-89CF-40E9-A41F-286F790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F835-609B-4E4F-840C-94A30257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2EE-5CB6-4BAA-B367-7D32AC5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DDBE-BABA-4803-9B71-12FE369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1DA-AB51-4EF4-92D8-E8E16FCF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CB92-233F-4DD9-92E0-DC837615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C41-1234-41EB-A3AB-6AA45B0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8B7-A69C-4867-A859-D6826A6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379-D5C5-419A-BFBC-875955C2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A1F-6C9B-4AA2-A247-8591243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F43-12C2-4841-BE06-CB4A19B2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65F-1BBB-4F40-933A-B6219824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CA1-9E05-438E-B91C-4D93E02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618-D01B-4153-9C9F-D820C73549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3D6-30A4-49A6-A0DC-992E5AC22A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www.iconn.org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Joy.Fitzgerald@vernonct.org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hyperlink" Target="http://go-passport.grolier.com/" TargetMode="External"/><Relationship Id="rId3" Type="http://schemas.openxmlformats.org/officeDocument/2006/relationships/hyperlink" Target="http://go.grolier.com/" TargetMode="External"/><Relationship Id="rId4" Type="http://schemas.openxmlformats.org/officeDocument/2006/relationships/hyperlink" Target="http://infotrac.galegroup.com/itweb/s1461?db=SRC" TargetMode="External"/><Relationship Id="rId5" Type="http://schemas.openxmlformats.org/officeDocument/2006/relationships/hyperlink" Target="http://find.galegroup.com/menu/start?prod=OVRC&amp;userGroupName=s1461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 to Magazines and Online Databa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ult Ed - 20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Databases are overall more reliable than a search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CT State Resources at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iconn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43400" y="4388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ckville High School Wikispaces Page with links for your us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mped or need help with online resour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mail the RHS Librarian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Joy.Fitzgerald@vernonct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 will email back with answer if I can hel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 of ICONN Resourc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839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on the Internet – Sources Availab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Library Resources -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cal Library Resources – Author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e Internet Resources (Google or oth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may be authorita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 are provent to be un-reliable some of the time so must be double checked if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3&amp;prodId=IPS&amp;docId=A204808169&amp;userGroupName=s1461&amp;version=1.0&amp;searchType=AdvancedSearchForm&amp;source=gale&amp;infoPage=infoMarkP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5760" y="1752480"/>
            <a:ext cx="722016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86200" y="972360"/>
            <a:ext cx="84186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through ICONN (** This also has a HISTORIC CONNECTICUT NEWSPAPERS DATABASE which covers 1764-1922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63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57800" y="834120"/>
            <a:ext cx="83134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 or Cit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ource Citation Murphy, Kate. "Organic food: should you bother?" Self July 2000: 84+. General OneFile. Web. 25 Jan. 2010. &lt;http://find.galegroup.com/gps/start.do?prodId=IPS&amp;userGroupName=s1461&gt;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TAIL: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BSTRA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bstract: A discussion of the possible benefits of eating organic food in the US is presented, with focus on the health benefits due to lack of pesticides and enviromental issues. </a:t>
            </a:r>
            <a:br>
              <a:rPr sz="1800"/>
            </a:b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 – Electronic or Print versions of publications by the government on all different top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have some in Print in our VERTICAL FILE, a print set of folders in file cabinet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vernment websites may have information :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pulation Statistics and Public Information are common and available from many websites ending in “.gov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of these you can download PDF versions or request a print version be mailed to you for free or a small char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specif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257040"/>
            <a:ext cx="54118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62240" y="190800"/>
            <a:ext cx="56379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ational Archiv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ate Library Resources -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8000" y="54864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cslib.org/#2731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739152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   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295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0080" y="83412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Authorit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362240"/>
            <a:ext cx="876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86400" y="910080"/>
            <a:ext cx="7932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cal Library Resources – Card Catalog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gazines found through Pai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Vertical File &amp;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forms – Historical – Ask at de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bases from State and Loc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nu li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: wi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xes with che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databas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che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access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t of list i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i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380880"/>
            <a:ext cx="5037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 Onlin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Home page on RHS Webs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WIKI page a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ine Databases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LIER 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go-passport.grolier.com/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go.grolier.c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STUDENT RESOURCE CENTER GOL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srcx/start.do?sc=S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pposing Viewpoints Resource Cen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http://find.galegroup.com/ovrc/start.do?prodId=OVRC&amp;userGroupName=s146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libcirc</cp:lastModifiedBy>
  <dcterms:modified xsi:type="dcterms:W3CDTF">2010-04-26T22:09:30Z</dcterms:modified>
  <cp:revision>29</cp:revision>
  <dc:subject/>
  <dc:title>Library Orientation</dc:title>
</cp:coreProperties>
</file>